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649-206C-41B7-8E9B-1B1D3CB4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A53-CD9B-44DF-9655-D79E24EF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17D-E02E-4D74-A972-A5B5ACD3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394-F8A4-4615-972A-7D25A78B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D59A-C702-4EB2-A059-822666A2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7695-618D-4B4D-8275-887E2A35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BB6D-13E4-42BF-B5F3-E534A7E5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DD21-283B-48F8-A7BB-00448EE7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6C7B-3EDB-42F6-888A-96BA65DB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5076-90B9-49C1-AF22-8A4C5A89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39C4-79C0-4937-9F65-65318342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AD4-A5A4-489C-BF04-E5AFF40E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6854-5943-4638-8F6C-08F92251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06AC-DE47-449C-9B86-A085D163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A8E1-6687-4F46-8BF6-C9A51F4C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A562-C469-45B1-B447-25B09FD9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6D93-98C9-4D36-BBB8-1BB5109A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4EB9-3A7B-44FF-942D-FA737E9B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A219-BB0C-47E0-84C9-ECDA824A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7595D-E82E-402D-99C1-F0106DF1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2601-B0FD-4CAB-9DF0-BF05BA47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0E29-50C6-40F9-8516-4E5E5923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9BC2-DD3A-443D-B222-39EC4E90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667C-E26F-48E8-8CF9-EFDB736A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7B53-2047-4324-A97A-C0AEF080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E4CC-6CC8-4AD0-8547-760162BE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BDA1-0965-4364-8CC7-416ECDD5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34CD-DB6C-47A6-B443-F69D50F9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D33B-AB07-4849-A131-5E07E00B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D204-B978-4761-9E07-7EC99988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788C1-F6AB-433E-9ABF-5A90E9DA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C63DF-CCA2-4214-ADB9-0A7DE871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FA6C80-7C8A-42A4-ACE0-24DA151A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D0B-BBA9-40CE-830E-CA218E9F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7569A-4E78-453C-BDFF-25BBA1F4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4A851-F6A0-4AA7-8944-6EB366CE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8EBC6-942D-4FA7-A37E-56673218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70A96F-C74C-414E-8688-519ECD3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C78DE-B488-464A-B079-FA4EA979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018EB6-0C2B-455D-8D24-4A8CF504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C43EA-8C7F-4851-9852-63D076F5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C6F3F-DE91-4001-8064-0653C82C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4379F-F1E5-4908-87FF-50B29FFB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633BA-1CE7-48FB-A3AC-9224D194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061-ABF9-4089-9F81-6C5783A4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0C4B2-E72C-43CB-90E0-7D44FDEE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43A81-1D5C-48B2-A0B7-AFCF12F7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959F6-C058-48B1-8699-D1588E17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8D66F-8DC2-4CFA-B907-65C9C494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72F7B-5767-4551-A758-22AD1C6D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0561B-7718-4FCE-A77D-EB69A92B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174B6-4D5D-4644-991D-85239B46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0A9B-0239-47AF-9462-AECF623C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1AA4B-20B7-49BC-A18E-B7852F89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A43F1-5A1D-4B86-B9F5-0C2D8464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265-3D56-4D26-96D6-A1AE361E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E2259-F17D-4203-8B53-6438B370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A7DCA-0B7C-4B9E-9AB2-6D424AF7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8D12C-1F97-42DF-9B8D-4AB04007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6A681-04F5-4A4B-A1B8-05EB6B24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85D1E-1CC3-4E7E-A03A-6D462549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1CF4F-26DE-4F51-9BC9-C4064681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DD5EC-F6BF-4A23-AA22-1012771E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B70EB-4B91-4CAC-B89A-A84BF409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84576-71E2-415B-A1DB-E1093199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69D54-16C6-493E-8F81-BBD2411A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3DA-762C-4833-ABAA-41D0834D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D8603-98B9-4195-A07A-1B04ACA9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58755-7C12-4A08-B815-9E35C7A3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FBDC1-0694-4935-A375-9986AA6C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24BEC-C146-443B-8BAA-B3DF9050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3331C-9D18-491E-9681-7255054E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B0C8C-5C34-4E0B-BE31-F125785C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196ED-F313-44CC-ACE1-B6FE64DA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DF633-E5C8-4455-82AC-6222BC57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073D1-8BC7-4417-89F6-010D3F92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A3C6F-7260-4B6C-86DF-1BADA2D2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3E3-57E5-4164-B62B-497C0A9E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CB742-5FB8-4C24-9D24-EE6E5B40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37F55-D180-4D82-874C-24726877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9098A-A484-48F2-B712-25C7AFAE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0C4BB-4A49-4AF3-9F3B-A8FD5C2B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00B70-4B48-4FF3-9E28-C40366DF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F9E8F-1932-4D96-89D4-65D1468A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6652A-DAC0-47C8-8228-DE403C06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7E4B6-13F1-4B84-BC19-2294FC87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00308-7CB5-4B11-B368-15C4D34C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18794-D980-49A5-ABC7-CAA95215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094-87BE-4950-9911-34FF1DAD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E7DC1-4E2E-447A-B807-CD67F278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C37D7-0C00-47B8-8D3E-5F87A711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F7E2D-6560-4384-A8F7-F173545E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E3BF7-7368-4952-9AFD-7386CC74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10C26-71D1-4172-A601-E0256504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A0ECD-B993-465E-8E90-F1A40205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50B8E-BD01-4968-A978-855EFCD9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C082-35B4-4D28-882D-7A143DD542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25DA-B509-4698-BDD2-0576C27E4C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36A2-EA56-4D61-99C3-4807EFFDCE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6AA4-DB61-4B59-A0D4-57E5A1A21D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35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39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64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E19E-732B-495B-B768-61E6D35D5FE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1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1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3495-FCFA-4504-9407-BAC5029782A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9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9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9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DEFE-2E3B-4CFB-8306-AF12E41592E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6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6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8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3ACB-6B9F-4192-8199-D76A98BE586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4392720" cy="305892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Использование новых информационно-коммуникативных технологий в начальных классах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250560" y="5373720"/>
            <a:ext cx="87138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Учитель начальных классов ОСШ №3 г. Аксая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Times New Roman"/>
              </a:rPr>
              <a:t>Есмагулова Гульнара Сергеевн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15000" cy="685800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468360" y="3716280"/>
            <a:ext cx="3743280" cy="2808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Здравству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Я корень раст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иву в зем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Так не быва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верное ты ненастоящий кор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т от меня в земле бер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чало ростки, из котор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растают кустарники и це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ревья. А из тебя разве мож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-нибудь выра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3"/>
          <a:stretch/>
        </p:blipFill>
        <p:spPr>
          <a:xfrm>
            <a:off x="4324320" y="0"/>
            <a:ext cx="4819680" cy="685800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4859280" y="3716280"/>
            <a:ext cx="3816360" cy="2808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Здравствуй! Ты кт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А я корень слова. Живу в слов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Конечно. От меня тоже бер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чало кусты, только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ений, а кусты с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3560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4643280" y="3645000"/>
            <a:ext cx="3996000" cy="295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т из сада вам расса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т ещё посадки ря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вот садово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ним садовник идё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чень интерес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улять в саду словес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250920" y="3645000"/>
            <a:ext cx="3816360" cy="28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77b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-то много лет 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адили странный с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был сад фруктовым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 он только сло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то слово, слово – корен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растаться стало вск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плоды нам принесло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ло много новых с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3560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47880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4427640" y="0"/>
            <a:ext cx="7308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4500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-360" y="1646280"/>
            <a:ext cx="88930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3500" spc="-1" strike="noStrike">
                <a:solidFill>
                  <a:srgbClr val="3333ff"/>
                </a:solidFill>
                <a:latin typeface="Times New Roman"/>
              </a:rPr>
              <a:t>Активное внедрение в систему образования локальных и глобальных компьютерных сетей обеспечит доступ к национальным и мировым информационным ресурсам, активизирует познавательную деятельность учащихся, поднимет применение компьютерных и информационных технологий в педагогическом процессе на новый уровень.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204720" y="595008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820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формационные технологии – это процессы, связанные с переработкой информации.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В. М. Глуш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пользование в обучении компьютера и аудиовизуальных средств обозначаются термином новые информационные технолог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. М. Монах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Цели использования средств информатизации и коммуникац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тивизация учебно-познавательн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стижение более глубокого понимания предм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витие личности обучающего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тенсификация психолого-педагогического воздействия с целью развития мыш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ормирование системы зн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витие способности к осознанному восприятию представленной информа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витие коммуникативных способнос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0920" y="291960"/>
            <a:ext cx="864216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Функции, подлежащие автоматизации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35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здание положительных мотивов, объяснение, показ и фиксация формируемой деятельности и входящих в нее зн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изация и контроль деятельности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дача машине рутинной части учебн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ставление и предъявление учебных заданий, соответствующих разным этапам процесса усвоения, а также индивидуальным особенностям ученика и состоянию его деятельности в данный мо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0920" y="291960"/>
            <a:ext cx="8642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сякая новая идея проходит три стад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начала говорят: «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Что за чушь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?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том: «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 этом что-то есть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 только в конце: «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А кто же этого не знал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?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. В. Гёт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лассификация образовательных технолог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539640" y="2816280"/>
            <a:ext cx="8208360" cy="2124000"/>
            <a:chOff x="539640" y="2816280"/>
            <a:chExt cx="8208360" cy="2124000"/>
          </a:xfrm>
        </p:grpSpPr>
        <p:cxnSp>
          <p:nvCxnSpPr>
            <p:cNvPr id="751" name="_s73742"/>
            <p:cNvCxnSpPr>
              <a:stCxn id="752" idx="0"/>
              <a:endCxn id="753" idx="2"/>
            </p:cNvCxnSpPr>
            <p:nvPr/>
          </p:nvCxnSpPr>
          <p:spPr>
            <a:xfrm flipV="1" rot="16200000">
              <a:off x="5592600" y="2577600"/>
              <a:ext cx="229320" cy="2127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4" name="_s73740"/>
            <p:cNvCxnSpPr>
              <a:stCxn id="755" idx="0"/>
              <a:endCxn id="753" idx="2"/>
            </p:cNvCxnSpPr>
            <p:nvPr/>
          </p:nvCxnSpPr>
          <p:spPr>
            <a:xfrm flipH="1" flipV="1" rot="5400000">
              <a:off x="3465720" y="2577600"/>
              <a:ext cx="229320" cy="2127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53" name="_s73736"/>
            <p:cNvSpPr/>
            <p:nvPr/>
          </p:nvSpPr>
          <p:spPr>
            <a:xfrm>
              <a:off x="671040" y="2816280"/>
              <a:ext cx="7945200" cy="7113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Образовательные технологии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_s73737"/>
            <p:cNvSpPr/>
            <p:nvPr/>
          </p:nvSpPr>
          <p:spPr>
            <a:xfrm>
              <a:off x="539640" y="3756240"/>
              <a:ext cx="3954240" cy="1184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Традицион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технологи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_s73739"/>
            <p:cNvSpPr/>
            <p:nvPr/>
          </p:nvSpPr>
          <p:spPr>
            <a:xfrm>
              <a:off x="4794480" y="3756240"/>
              <a:ext cx="3953520" cy="1184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Информацион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технологи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50560" y="291960"/>
            <a:ext cx="889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Группы учителей, соответствующие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классификации образовательных технологий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37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я, которые используют тольк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адиционные технолог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я, которые уверенно внедряю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формационные технолог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я, которые пытаются использовать информационны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олог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95280" y="476280"/>
            <a:ext cx="8577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едагогическая мастерская </a:t>
            </a:r>
            <a:endParaRPr b="1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о русскому языку </a:t>
            </a:r>
            <a:endParaRPr b="1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3924360" y="2421000"/>
            <a:ext cx="1736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2 класс</a:t>
            </a:r>
            <a:endParaRPr b="1" lang="en-US" sz="40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692360" y="3141720"/>
            <a:ext cx="5481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РЕНЬ</a:t>
            </a:r>
            <a:endParaRPr b="1" lang="en-US" sz="40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24000" y="5013360"/>
            <a:ext cx="8219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Учитель I категории ОСШ №3 г. Аксая</a:t>
            </a:r>
            <a:endParaRPr b="1" lang="en-US" sz="32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Есмагулова Г. С.</a:t>
            </a:r>
            <a:endParaRPr b="1" lang="en-US" sz="32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06904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Цели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. познакомить с основной морфемой слова – корнем – родоначальником всех слов; сформировать понятие «родственные (однокоренные )слова;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2. воспитывать уважительные отношения к старшему поколению, к родителям как основе семьи;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3. развивать связную монологическую речь, мышление, память, умение выбирать самое главное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Оборудование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средства мультимеди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5:41:19Z</dcterms:created>
  <dc:creator>xxx.b</dc:creator>
  <dc:description/>
  <dc:language>en-US</dc:language>
  <cp:lastModifiedBy>REM</cp:lastModifiedBy>
  <dcterms:modified xsi:type="dcterms:W3CDTF">2009-02-23T20:14:18Z</dcterms:modified>
  <cp:revision>23</cp:revision>
  <dc:subject/>
  <dc:title>Использование новых информационно-коммуникативных технологий в начальных классах.</dc:title>
</cp:coreProperties>
</file>